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EF9-6BBB-466B-BC38-ACDAFCCF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8F0-954E-4975-A2A0-0AB972B2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D96-FFA1-49A0-98E9-6F0D4A42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6AE-913D-45E9-A154-4C7F6E9D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D8E4-7830-4074-8AA8-8DAFBB87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C42C-F4D0-48BA-BB68-D528AD6C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14F-21FD-430A-B458-EFDC94B8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A1ED-2D7C-4664-BDD9-75DC13B0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0CCB-3520-4972-B3D0-993F382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9E19-1EB9-40F7-A028-C2FAEC70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85B5-A732-4F6E-AE97-902DB8E9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F1D-749D-4610-902A-D004DAF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6286-F347-4244-9E5C-2584F02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2BC1-0D9D-4808-BC01-7F48A931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92B0-9662-41EE-8E01-45B5FA64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EF70-B431-40AA-B849-7CED14A1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6BE7-A284-478C-8833-8C636C50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410-D15B-4B51-AF80-78E2F0B8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78E-3A89-4AD8-909F-C2996657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613-0148-40BF-BD14-69C86E8E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246-E422-4B87-8F27-3D72800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F4D-852A-4D61-B7D8-EC68FA5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BAA-259A-48C9-BDD8-2D6DFAB6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272-F589-4E06-BB70-6AF0B4F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AA28-0739-445C-AC7C-40D6E2C2EEA1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C1D-5192-4AE1-85E8-5797A4606B1B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proul.wikispaces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elcome to Miss Sproul’s Algebra Clas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2010-2011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ell us one interesting thing about yourself! Be Appropriat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on Tim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Prepare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Respectful and Courteo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llow all School Ru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Food or Drin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vatory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ay in Seats at All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issed Work when Absen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sproul.wikispaces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enda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orkshee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e me or e-mail m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 5 times a wee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4 poin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 late home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uppl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lgebra Textboo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ring Bind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tebook Pap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encil/Eras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culator -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xas Instruments TI-30XII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nline Textboo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y.hrw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tudy Island/Laptop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ww.studyisland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2:16:51Z</dcterms:created>
  <dc:creator>Parkland High School</dc:creator>
  <dc:description/>
  <dc:language>en-US</dc:language>
  <cp:lastModifiedBy>Parkland High School</cp:lastModifiedBy>
  <dcterms:modified xsi:type="dcterms:W3CDTF">2010-09-07T16:58:23Z</dcterms:modified>
  <cp:revision>3</cp:revision>
  <dc:subject/>
  <dc:title>Welcome to Miss Sproul’s Algebra Class!</dc:title>
</cp:coreProperties>
</file>